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53B7-2CBE-4D35-884A-92DD3CAC4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BC02-7B51-4B1A-A904-92A78C8AD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75AB-B4BD-4D08-A7D4-467DA9BAE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03C0-379D-4C93-8E51-4606C51B7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319C2-D35F-4568-8B17-64B865319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69C5E-149F-40FD-BFB5-5281D44A9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656C2-248D-4979-A385-8A9914C8A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F0475-C23D-4123-A1CF-781D19BC5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F5378-839F-4CB1-990C-A4F3B8DF8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C4616-6FAE-417B-9332-C875299F5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DBC92-6053-4F35-8AC2-ABA9B122F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F242-E94C-4438-B1EF-F737EE157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4B38A-BF25-4D59-9846-9FB3D2F80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98E96-2A84-461F-BD7D-8F6CB9D58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80CB0-F597-4CFE-9CDF-EF5EEC6CA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05ECC-7F27-44F0-93E8-33B09ABC2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38314-E06D-48E7-ACBB-8220377A0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A526-1595-40A0-82A8-E2C7E0976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59ED-8355-47D3-8042-20D110FCA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E91B-4A72-463F-A042-58EFBE1C3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4A3F-7504-424E-8669-907830DD7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40AC-8E93-48CC-B65A-354EA6C61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EA4D-D4FF-4C78-9EEC-FF4B04A3B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650C-8BF5-4AF5-B003-254154A05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A1173-CAF0-476D-BA22-8664E3FC72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BB047-7B37-4050-A566-EF017D7885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11</a:t>
            </a: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장 지체장애아 교육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정의 및 분류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미국 공법에 의한 지체장애의 정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형외과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경학적 손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하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편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디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단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삼지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더블 헤미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의 정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최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뇌성마비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체장애 중 가장 높은 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이상과 관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적 능력의 다양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가 장애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장애와 함께 지능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 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성마비의 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직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50-6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긴장이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수의 운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25-3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의 대근육 통제 문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실조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1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 조정의 어려움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기타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분척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진행성 근위축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골형성 부전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척수 손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간질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대발작과 소발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심리요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작기록 양식의 예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간질에 대한 대처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관찰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컴퓨터 보조 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Any Questions??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411280" y="1916280"/>
            <a:ext cx="4248360" cy="38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8T16:46:33Z</dcterms:created>
  <dc:creator>.</dc:creator>
  <dc:description/>
  <dc:language>en-US</dc:language>
  <cp:lastModifiedBy>f</cp:lastModifiedBy>
  <dcterms:modified xsi:type="dcterms:W3CDTF">2007-05-17T01:34:04Z</dcterms:modified>
  <cp:revision>14</cp:revision>
  <dc:subject/>
  <dc:title>제 11장 전환교육</dc:title>
</cp:coreProperties>
</file>